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4BA-5180-4E4D-BBC1-42081895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85D-7901-43A4-BB72-DD5EC731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836F7E-50FA-43CA-98B8-8E9128E8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F0294B-003F-4115-92D2-560D6638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E6B235-B172-4BCB-A5DA-E6906587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9DBAF2-BE90-4260-9CB4-3CDA6552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3DB7F4-B5EC-44BC-A5D2-D43D6A7B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2D1DC3-F9E6-46F9-A6BD-89972797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4B5E09-7DAF-46BD-A033-2BA7829C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0A224F-B8DA-4867-9F8B-21EC2450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ADB350-597C-4170-9CDC-9D21CDC7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0B5F-3FD9-45AD-A931-DC7DBF34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020-7706-48FB-9BCD-5DCF1D8C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B1FE2-C4E5-4A85-BC98-D3B73C4C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51DDF-FEDF-4EFB-8FE9-15FBBEEA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C1314-D0A0-46AC-A185-CC2FE294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0AF72-1327-4EDC-B2B0-9C8A226F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66159-2B11-464E-BDBD-04D4DE91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C8F8C-2022-4A35-9AB0-7505E4B1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A43AC-014E-4390-BD5D-4D22C4B4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BD6-05F1-45D0-ABF9-10C74714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6151A-02DD-4785-B46C-D9557D95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E386D-CAA4-4D57-A037-8F42D1D7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77C22-8EB8-4974-B478-930A601F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52CFF-5342-42BF-BD6B-55D2B411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F245E-7C72-495B-A07D-A1E4A829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0B8DD-D81A-4188-B389-8B8309C3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DF01-CE16-49F0-BE76-0BF90674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1D47C-8ABE-4C6F-A973-70C99B92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3E186-93ED-4188-BFFA-C865403A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B1F62-8AB5-40B1-A18C-BD8381DE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0A0-C998-4E5D-AA75-74BA87AB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D7757-9795-4C0B-8A1F-D0C887ED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A412A-5F44-484F-A489-1BB011E4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A40E2-456C-40A2-B961-05D4346E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1573F-2C7B-471A-9DEE-65E36207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645FA-3844-417C-A951-AF5BF597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00E2D-9C8E-45CE-B782-C0148615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F38E3-BFFE-4C3E-A8AC-B2EA681A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FE48A-F035-49D7-BB14-D4A2A937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C3867-3F92-4873-9252-8B1EA530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CA1A7-8DEB-4E28-85FD-04620E27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113-11DE-4CB1-B691-F02566AD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FC5A9-C20B-46CF-AABB-B90F41FD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6C1E1-26AF-4523-9591-0A5F1A71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A8F11C-A22F-4074-A500-B800AF57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D1DE58-F232-4E74-A546-00F34124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878500-C288-4D4E-BF1E-E01D2A8C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2FE40-F949-4188-AD16-48801809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7478E-2FD1-4872-8FDF-03C6FC05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A24D8C-EDCE-48DA-8C88-B70E83E1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82314-2D09-4A04-89F8-7B353D3B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3CCC6-7A6E-4AF4-BA1A-CE1C76FA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280A-C0C5-4103-A829-C3AD36DA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EFCE7-0156-4B41-B50A-95832E84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C79E9-588B-48B4-ACC7-29DC4820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A82DE-1A62-486F-81AF-DDB2064B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F2D3F-DAF1-4058-AB68-70B82E2C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76194-2D2E-4C0E-9FCC-938C7065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2AC1B-CAA2-4820-80B3-5DA8BEE7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C08C9-8242-4990-B989-B6C78883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0FC2B-D388-40AF-B4DE-DE85F155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708B6-FE2D-4870-BCD7-8DC01048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CD81E-9321-485A-8AD2-92F26EF4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66B-2A81-431A-B2C7-B7250405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6DBD5-58A6-4594-8EB8-C399D634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BEA5A-9CBE-471F-9D44-EAF8CFFA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33C1A-6C30-4BDC-B558-77D27F0F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93F68-D335-41E5-AB22-14B0D5DC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66B9B-031D-43BD-B62B-7EBAEC1C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9276A-97E7-48EF-A841-DB7F35E8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7E031-4B9D-4E15-9EE2-30DE277C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BF6C9-AFEA-47CB-B531-81A6848B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D9AAD-CE9F-46B2-B54F-1FF9810B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32280-C102-4AB6-B78C-941DA1C7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B8B-AD89-4369-8B66-90A12EF4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F43D2-05F6-4ACD-B62F-3C021CFB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28446-D322-4DFB-BA07-7CDB6B7F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4533E-70AA-44C8-8ADA-866E7416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BC846-5CF1-4253-B34B-8024CB9A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773DB-6E4A-49C5-86FC-AC5A53B4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E5129-4D4D-47A3-804B-AEC4BD26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13F97-2BFA-4412-AACC-4CCCBF43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6EB31-EDB3-40F8-B646-F6532E77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18C0D-8473-41FC-97F0-B830CD59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9EEEB-F177-47F9-8F11-0392298A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5EB-32E8-4AED-B9B5-62797A05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6F865-9A08-4376-A897-EE961695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0A088-BFBA-459D-9D1F-BC479987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F5BE6-8DDD-4816-9C4F-45F42816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8BC58-3A55-4475-A047-BF413F27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03220-7A0D-40F9-803C-D882D3C6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E85784-D033-403C-B10F-286D60E4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B103B2-94D6-4213-A986-5B5A9405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2BAE4A-595D-4766-A267-141027F0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A39712-60B0-4263-81E0-07B92EF8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75D956-0456-4FC2-ABA5-E1AB393E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E31-C815-4ABE-A7E3-565445DC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DEFBAD-053D-4C16-A287-90AB2355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8928D9-A3D9-451E-A6B3-8AD3103B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747240-14B3-4C52-8FB8-F6D98982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A20DB5-2793-4764-BF0D-345E1931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ACB483-1D8F-4586-8D6A-24ED5196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8FB46A-EBC4-4BBC-8C56-3973DE24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246CB8-61F2-4FDF-AA8C-15861FCF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1B90E7-9E10-4288-B170-46422AEE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572126-A9CC-4BD6-BF14-150D5E89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2425D4-9074-44AA-94BD-009DD2AF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4A1B-99CF-4C71-97FC-986DDDFC9CA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CAD1-7EA6-4F6F-AAD5-24B35043C70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E2FF-1F16-4672-B585-E1B85FED6BF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C885-316B-4D00-A05D-FA12A15DAF2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B138-7209-4C59-8030-9A1D9225E82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0C60-A386-44E1-8419-0C4BC6E1025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0EBA-41C1-4974-8B97-254FADF1F03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6A35-A33F-48D9-95D8-DAE1F70BDB9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D994-4D7B-43E1-8729-B0CDC449C24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352320" y="2819520"/>
            <a:ext cx="5340600" cy="4038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orms sweep  the United States-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59 Tornado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46 Deaths Total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,500 injured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$11 Billion damag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39 dead in Alabama…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Picture 3" descr="b'ham tornado[6].jpg"/>
          <p:cNvPicPr/>
          <p:nvPr/>
        </p:nvPicPr>
        <p:blipFill>
          <a:blip r:embed="rId2"/>
          <a:stretch/>
        </p:blipFill>
        <p:spPr>
          <a:xfrm>
            <a:off x="304920" y="2743200"/>
            <a:ext cx="2895480" cy="396252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/>
          <p:cNvSpPr/>
          <p:nvPr/>
        </p:nvSpPr>
        <p:spPr>
          <a:xfrm>
            <a:off x="457200" y="6858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labama-Natural Disasters by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Ossie Ware Mitchell Middle School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Birmingham, Alabama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1" descr="Birmingham-Tornado-April-27-2011.png"/>
          <p:cNvPicPr/>
          <p:nvPr/>
        </p:nvPicPr>
        <p:blipFill>
          <a:blip r:embed="rId1"/>
          <a:stretch/>
        </p:blipFill>
        <p:spPr>
          <a:xfrm>
            <a:off x="495360" y="380880"/>
            <a:ext cx="8051760" cy="60199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al april tornado.jpg"/>
          <p:cNvPicPr/>
          <p:nvPr/>
        </p:nvPicPr>
        <p:blipFill>
          <a:blip r:embed="rId1"/>
          <a:stretch/>
        </p:blipFill>
        <p:spPr>
          <a:xfrm>
            <a:off x="914400" y="533520"/>
            <a:ext cx="7434360" cy="55674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1" descr="alTuscaloosa-Alabama1.jpg"/>
          <p:cNvPicPr/>
          <p:nvPr/>
        </p:nvPicPr>
        <p:blipFill>
          <a:blip r:embed="rId1"/>
          <a:stretch/>
        </p:blipFill>
        <p:spPr>
          <a:xfrm>
            <a:off x="457200" y="685800"/>
            <a:ext cx="8255160" cy="52578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al storm survivors.jpg"/>
          <p:cNvPicPr/>
          <p:nvPr/>
        </p:nvPicPr>
        <p:blipFill>
          <a:blip r:embed="rId1"/>
          <a:stretch/>
        </p:blipFill>
        <p:spPr>
          <a:xfrm>
            <a:off x="762120" y="1066680"/>
            <a:ext cx="7924680" cy="478656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" descr="birmingham TORNADO.jpg"/>
          <p:cNvPicPr/>
          <p:nvPr/>
        </p:nvPicPr>
        <p:blipFill>
          <a:blip r:embed="rId1"/>
          <a:stretch/>
        </p:blipFill>
        <p:spPr>
          <a:xfrm>
            <a:off x="533520" y="5335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bham after tornado_44.jpg"/>
          <p:cNvPicPr/>
          <p:nvPr/>
        </p:nvPicPr>
        <p:blipFill>
          <a:blip r:embed="rId2"/>
          <a:stretch/>
        </p:blipFill>
        <p:spPr>
          <a:xfrm>
            <a:off x="3505320" y="3581280"/>
            <a:ext cx="4873680" cy="2743200"/>
          </a:xfrm>
          <a:prstGeom prst="rect">
            <a:avLst/>
          </a:prstGeom>
          <a:ln w="0">
            <a:noFill/>
          </a:ln>
        </p:spPr>
      </p:pic>
      <p:sp>
        <p:nvSpPr>
          <p:cNvPr id="404" name="TextBox 3"/>
          <p:cNvSpPr/>
          <p:nvPr/>
        </p:nvSpPr>
        <p:spPr>
          <a:xfrm>
            <a:off x="5105520" y="914400"/>
            <a:ext cx="335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merican Red Cross , Alabama National Guard, and many other agencies help the victims of the storms.   People need food, water, shelter, and medical services.  Assistances comes from all over the state and nation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533520" y="43434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Volunteers clean up debris and help rebuild our communitie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advTm="5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birmingham bell-cosby.jpg"/>
          <p:cNvPicPr/>
          <p:nvPr/>
        </p:nvPicPr>
        <p:blipFill>
          <a:blip r:embed="rId1"/>
          <a:stretch/>
        </p:blipFill>
        <p:spPr>
          <a:xfrm>
            <a:off x="838080" y="1295280"/>
            <a:ext cx="5981760" cy="41148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7086600" y="914400"/>
            <a:ext cx="1523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ayor William Bell tours the storm damage  in Birmingham with comedian, Bill Cosby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al obama.jpg"/>
          <p:cNvPicPr/>
          <p:nvPr/>
        </p:nvPicPr>
        <p:blipFill>
          <a:blip r:embed="rId1"/>
          <a:stretch/>
        </p:blipFill>
        <p:spPr>
          <a:xfrm>
            <a:off x="380880" y="609480"/>
            <a:ext cx="5715000" cy="34959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al april obamalabama_blog_main_horizontal.jpg"/>
          <p:cNvPicPr/>
          <p:nvPr/>
        </p:nvPicPr>
        <p:blipFill>
          <a:blip r:embed="rId2"/>
          <a:stretch/>
        </p:blipFill>
        <p:spPr>
          <a:xfrm>
            <a:off x="3962520" y="3276720"/>
            <a:ext cx="4572000" cy="300996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"/>
          <p:cNvSpPr/>
          <p:nvPr/>
        </p:nvSpPr>
        <p:spPr>
          <a:xfrm>
            <a:off x="838080" y="464832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resident Barak Obama visits Alabama.  Declares area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Federal State of Emergency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advTm="5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alRebuildAlabamaLogo.jpg"/>
          <p:cNvPicPr/>
          <p:nvPr/>
        </p:nvPicPr>
        <p:blipFill>
          <a:blip r:embed="rId1"/>
          <a:stretch/>
        </p:blipFill>
        <p:spPr>
          <a:xfrm>
            <a:off x="609480" y="685800"/>
            <a:ext cx="8123400" cy="54100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04:32:21Z</dcterms:created>
  <dc:creator>USER</dc:creator>
  <dc:description/>
  <dc:language>en-US</dc:language>
  <cp:lastModifiedBy>USER</cp:lastModifiedBy>
  <dcterms:modified xsi:type="dcterms:W3CDTF">2012-01-01T05:38:41Z</dcterms:modified>
  <cp:revision>7</cp:revision>
  <dc:subject/>
  <dc:title>Day of Disaster: April 27, 2011</dc:title>
</cp:coreProperties>
</file>